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EAF-0A92-4D21-B74F-E86E17B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6E4-9F76-4D0C-9A50-34F7371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537-1B8F-4CCF-9EB5-7C081DA6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9C2-577E-4802-BF7D-0D74FB93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76D-E275-409A-922D-4C46CCF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B2B-80D2-4AE5-A6FE-59F4A2AA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934-95C0-43BC-927C-F06EAB29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0EB-B6F2-4DF4-90A7-77081AB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1B9-114C-46C3-86CC-B6601D7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68A-AB71-4DFD-949B-C032516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162-6477-4C84-BD10-218752D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9AB-0098-46D2-8021-554F7B7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092-7C34-4EA3-9608-3F8EEEB67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470" t="22677" r="0" b="4916"/>
          <a:stretch/>
        </p:blipFill>
        <p:spPr>
          <a:xfrm>
            <a:off x="0" y="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9153" t="25049" r="0" b="7643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9153" t="25522" r="0" b="9552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9153" t="25522" r="2399" b="3661"/>
          <a:stretch/>
        </p:blipFill>
        <p:spPr>
          <a:xfrm>
            <a:off x="0" y="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153" t="25049" r="0" b="13282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9153" t="25522" r="0" b="6491"/>
          <a:stretch/>
        </p:blipFill>
        <p:spPr>
          <a:xfrm>
            <a:off x="0" y="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9153" t="22490" r="0" b="15187"/>
          <a:stretch/>
        </p:blipFill>
        <p:spPr>
          <a:xfrm>
            <a:off x="0" y="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9153" t="23873" r="0" b="12618"/>
          <a:stretch/>
        </p:blipFill>
        <p:spPr>
          <a:xfrm>
            <a:off x="0" y="0"/>
            <a:ext cx="9144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9153" t="23642" r="0" b="16102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9153" t="25522" r="2399" b="9552"/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167" t="25522" r="2403" b="3661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9167" t="23873" r="2403" b="4134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9153" t="22697" r="0" b="12343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9153" t="23873" r="4521" b="413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9153" t="25290" r="0" b="7195"/>
          <a:stretch/>
        </p:blipFill>
        <p:spPr>
          <a:xfrm>
            <a:off x="0" y="114948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9153" t="25487" r="0" b="9537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fesor</cp:lastModifiedBy>
  <dcterms:modified xsi:type="dcterms:W3CDTF">2011-06-22T10:03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